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295-019A-4860-B78F-8931E495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F27-9905-4B77-A326-E59A5D9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7F1D-058B-42D8-B70F-0BA01F1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8697-0C7A-4EEC-AB3D-8EB11C2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EA0AD-D544-4038-888B-99199CCF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701D-3959-46B3-93DB-7391B15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FC64-554C-4AC8-B1C3-0960D55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5E7D-3E50-4480-9240-5C2CF57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5E34C-FCAC-4CFE-BCD2-15BB665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C2A2-6233-4691-95AD-06B59A33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781C-36FF-4091-95BB-543D8F49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0022-8B8C-406E-BF24-61B55509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DA9-3AB9-4ECD-9668-16D33943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4DEC-A532-45CF-B937-916C8A12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B6E6-6141-4855-A7E0-E0BDC51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FF2F3-9D5E-49F2-A34D-3E8972F9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8F90D-8EE3-4F11-AC71-BE7057B6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3285-4333-4A79-8AB0-4E1BD76E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F31EF-5FFB-4922-B0BD-EB80C31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C5D1A-0AEF-4BFC-BEC3-F874233E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A4D2-8A54-41FE-A760-97796C4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B1B9B-F58E-4F7C-ADCB-28C2002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097E2-9B61-4219-B9C9-33D247B4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B71-8D6B-42C7-9F42-0EFFC1BF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F733A-C9B5-44C5-B55F-0ED8D681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14AE0-E5EF-4A9A-A64A-3BAB3BD6FD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D653A-6CAC-4222-B4CA-FA1FFD50EF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65F4F-5446-4FA0-B984-DBB56A63D1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0E504-8E29-4B9E-BFAE-2FD29DBF7F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BF2EF-6BB4-4ABA-A01E-8C5FF271A9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7ED0F-EBD0-4731-97AA-58C6749C1D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02EDB-77AB-4FDF-AD15-3C2A538DC67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325F0-9DD9-4A7D-8C11-C21805B8E2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75EF-711D-4377-AD02-073BBA82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D25-8371-4118-81D1-DB49D538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6B46-1EFF-4B16-BD3A-9A25DBE3C2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21FA-5969-4DB9-BA4F-A64B9B3FFE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7455C-77AB-4AD5-9736-BCC30101AE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8FE1F1-5949-4B7D-986D-711ACECD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6C9E1-CE5E-4BBD-BDF9-7DCDBBD8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55DE9F-A6B8-4373-B1CB-A16218F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FDB41D-C8EC-4149-810F-4A989E4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0B51B7-5B92-42B2-83C3-0B027E4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7E787E-F75E-4A86-9D30-008AA5A5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23E5B-6302-4298-AC92-8E35EC4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EFA2-72D8-4A3C-9D1A-4BA40B6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BC6013-BFEF-4DB8-9BDA-49061F06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DA78E7-3C4F-40BF-979A-95B3003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DFCC96-5B8B-47C3-97EE-2CE2D82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17FA44-F541-428C-8FF8-515464FC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C9DBE5-C4C0-470F-986A-F970874D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D3A94-968D-42C5-A60A-3135ED14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B5783-AF8E-4F3B-BD53-47C8003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EF146-3551-4C90-9AE9-7FC4BA3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51132A-30A0-4EF4-A177-939EDD1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201A14-36F1-4456-952A-5AAEF577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1BE-D349-4496-8F7F-205C6F3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AB056A-AC74-4C08-92C8-231AD34A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8E7B99-64ED-4D52-A8AE-B91EFD9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2FA08B-C4B6-4CAF-8612-0F4135B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5EDBD1-0DE1-4A59-93D2-6BF3FC0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F28CBB-D0B2-4DA4-967A-76CDEE6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FDF16B-467A-4F80-99C1-F0DBCFF4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C6615A-F2CD-4DE1-B589-9961F52A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E5A8A-172E-4107-87E7-09C42AFB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253B7B-05CB-44D7-8F24-5861D6B8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9F2DE2-3803-484A-817E-2622F2E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945C-1BC6-4D04-9311-D59ABAC1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63A124-11E3-42B6-BEC0-1EDEA88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3053ED-523F-4E0D-92F1-9F27B134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D33B16-F7A3-415A-B3E6-4D66A5F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5354CD-34E8-4027-BD33-B2343A0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C4A6B-E55B-4ACA-8464-8BEE0AC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B115E3-F7AC-4ADF-9958-7DC2AF5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4CE8BB-E72A-4949-8182-E284925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2F350-7B0A-456F-9EDE-C11357D6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24D8F-99B4-471E-8985-200CC849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7A188C-13BB-4681-AEE2-D319F67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66BB-52B1-4EB5-B645-81BAA656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B2C89D-DD7A-4B93-AF6E-727C691A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9937F1-8293-4CE2-9E49-B0432AF7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D7CE29-4BE2-40A9-9ACF-31E49267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0889E9-CB35-497A-98A4-9D77BDC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ECF9A-A865-4DCE-9F35-3580958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76F3B3-2C04-49D6-9BDD-B0B9CFF6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5F436F-933C-45FF-BE88-2A85C3C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722487-36AB-4365-AC8F-DFA4E85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769EF8-F386-4E50-8164-5761FB9E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704B51-0187-4ADB-9500-92BF9A93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D4F-57C7-4CCC-87FC-BB9F44BC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DC80FB-F31C-4FB6-B0F5-6CA73227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5224A4-A16A-4F92-9D23-56E97C73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6FB37B-361A-4CC2-A670-82C704D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C1CF9A-5EFC-4B84-BB5B-2081096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412518-B3EA-4A64-B1C3-E60194F8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BE76DE-5C8B-4D76-A32F-9D9C673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F869C3-66B4-4F8F-9AEF-9FEA494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3D30DE-73D8-4A55-8551-BD1B23E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635E77-A35F-45D0-B7F2-D1DC34B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8DCC72-B17F-4E6A-9E3B-4E05609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2D24-44DB-4CAF-A23C-62DF4875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F91470-6CCD-4928-9FF5-BEE7817C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43AFBD-B7A6-4AB6-8DE9-DE90745A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31EB28-3667-4AA2-A2F8-F4831C1A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69749-8606-4EA3-91D0-000934BF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0C7E2-99A4-4FE5-BB16-060C730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0ECF4-DBFE-4D68-98C3-593EF7B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4D815-173F-43EE-978B-357DF47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7E172-F92C-4E9D-96B5-9912894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760C6-ECBD-42FF-9859-D37DE97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0D8A1-55F8-4D8B-ADD3-AFE6496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74D-4259-4474-BDCD-475E48B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3D5-E92B-4B06-84B5-BFDDE13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B42B4-380C-4CB5-A97E-E121CB6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A15FF-BDAC-4FCA-9BAA-ECA579B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498D3-72B9-4245-BD75-7F6BD150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FCA79-09A5-4552-8B57-D2127532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9D6B5-FA03-411F-9053-55E5340C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4476D-A6A8-4496-96F8-FBF2860E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3C035-C41F-402B-92E4-0D0999BB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D64B1-EAB0-46DE-81C7-B60E1B7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EE11B-19C7-4291-BDAD-5092CC3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E03D1-CF2A-4512-AB12-ECEA1413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25D-35E3-4138-871B-9E2CA42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DE3B4-2554-49E6-886A-43E7015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D2600-0920-41C1-AED5-8ACA5CB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5C141-3122-48D0-A89F-AFFD57AD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66751-C95C-45BC-A16D-67737FD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10FAC-3C1F-4491-8CED-257C543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8C9A5-78BF-456E-899C-A6B60645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1E7B5-703B-4E7F-8832-95896DE7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FF9-FF69-481D-B80E-1F63391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BB2B-17C2-4DD5-B8BE-F779EDA0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040-A5A0-4308-804E-C2FDFC7B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B413-33ED-4F5D-A2A0-FEA950BB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F76D-5A21-42DE-989D-E3CEEC42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9495-5E70-4383-ACAF-D3C000A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F901-A6CE-450D-B467-ECD188A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8AC9-9B76-45FE-BF29-912BED1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839-A902-4894-8E90-5B045A0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ECF4-3C38-4F91-8781-219E5672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4151-7A8A-4033-8982-481B0396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7C87-71C5-401F-8F90-86F9BBA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4F99-1E53-4A4D-B301-2E4E7C7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5C30-DF8E-4328-BB16-E16F6BDA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9117-0595-4C8E-B0F6-F22F8E81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D555-4D62-4DB3-BE3A-A2A6C24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5FE-53FB-4277-81AC-824EEAB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4A69-7611-4A8D-AF0A-9B3810BB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F56-DA81-4FE6-888D-3200427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DF30-D277-4106-B1D2-8DE6F2B7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99E5-ECCC-4ACE-A797-49A0A4F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F957-7C18-43E7-A62C-04FA532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77AF-7177-4463-A3D7-62A4638B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62D0-97BB-427B-AA0C-D29C2A24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4AC7-E2B0-436A-B1DA-4378F210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C1B8-F547-4545-AE4D-C3B4211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6D68-714E-47E7-8E75-45EF131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6A36-1AF3-4867-A091-69D5113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3CAC-D26C-4D23-9F5A-B5100D83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267-AF92-4E20-8312-702A1D12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EF12-BA0C-4B6B-803C-1E522DA5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7BEC5-FECF-4F99-9871-17CF3EAC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0352-881C-47B8-AE44-FAF1A2FA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7F4E-11BF-4EDD-993D-2ACB2840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8129-3335-4300-B519-8F9357F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3199-9D7A-4736-A74C-FE24870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F023-71D2-4BAF-A4C7-F00C924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DF02F-55D6-4F65-A38D-A270091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D512-2724-4A6E-8DE7-2B2A904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0A66-B345-4E2E-92B1-A009D7C5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A21-69F4-49B1-A938-0537A3B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489B-F706-4466-ADA2-92AA3B4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069E-881A-4A51-B5AF-A41D64A5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5F60-73A6-43D0-85A3-64DC2B9B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93AB-AA3C-4F32-8E44-29F65CC9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502F-970E-4164-B630-54D5012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03C8-776A-40A6-80EF-CBDD173A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0F15-02B0-40AA-8299-ED420A5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94FD-8510-4325-8962-83417E2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E28A-06A4-42C3-BC9E-74DEF3C4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E5EF-6511-46E5-AACA-EB7532D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FE4-1CE0-4D70-8A7F-C037E07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E06C-17CB-4E00-ABE4-FF7DD56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96F4-0FEF-4801-988C-A9D2F94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C1C6-6E96-4C1F-B843-8A59220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7171-029B-410A-B5A3-CE18A293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44B1-B037-4F32-AB76-05F61EC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4C2E-61D7-47E6-9D4F-A5A08187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26AA-F3EF-427C-95DA-9776EF8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61A1-615E-4FB4-9755-A8426AF1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F293-E45A-4DD5-96F4-14D3C8F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E29E-A4E7-49DC-A13F-D691BDEB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45E-3A46-458F-8B44-7E8250F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FBC9-408E-4A9B-802B-29BCFE5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BBED1-A785-4736-A257-E7F77AD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573E3-C90E-403E-8A3C-F7E3B92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E00AE-A97F-460C-98BB-4ACE46C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F31F-CCA3-4E2C-AF86-8E7DE1C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BAE0-8F1A-418C-AFF8-3BC08389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D938F-05A2-4FF8-9D47-E3DBD99A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74AF-5946-4B58-B918-2E9FC7D6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0437-DB6E-4406-B9C2-D23C7E8C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3158-C752-413C-8F31-C1720D6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 Stedendriehoek 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2E522-8618-42B5-8F03-EE141CE5B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C96DE-75BD-4CCA-9E26-A301DBA8C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dt" idx="28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B2336-2205-4D8F-8B28-7DE5A691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78A0E-D6BA-4050-9481-BE44EF4F0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dt" idx="33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B9F89-6064-4404-89EC-DF21371D2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dt" idx="36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16536-22D8-4754-9872-CB5CEE2F2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dt" idx="39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55739-240B-4859-AC04-4A3108BE5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42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9B32F-008C-4AB1-8C98-AE9519505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45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6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erkgroep Dienstverlening VGS                                 11 juni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FBFB1-6662-405A-86F2-DA646457A1D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49"/>
          </p:nvPr>
        </p:nvSpPr>
        <p:spPr>
          <a:xfrm>
            <a:off x="22680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594EC-1B55-4EF8-82BB-C76154F3F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VGS-kring Utrecht-Oost, 19-08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C3033-9135-47B3-A5D2-B5D28B9DE8B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ijdelijke aanduiding voor datum 2"/>
          <p:cNvSpPr/>
          <p:nvPr/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GS-kring Stedendriehoek ,1 ok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VGS-kring Utrecht-Oost, 19-08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D8209-1383-4BDD-AC48-6177C1EB6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3094.1010_KING_Tite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227160" y="5923080"/>
            <a:ext cx="57909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8ACCF-868E-400B-91BF-75547F6D4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285D8-8E0E-4DBE-BA8E-A8ED0CF4B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0DBC6-FE7A-45E0-BE98-762DA356B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dt" idx="19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62DAE-6ADC-4DFA-BA32-3B403721A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dt" idx="22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6BD30-C7EB-499D-833C-B838860E2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25"/>
          </p:nvPr>
        </p:nvSpPr>
        <p:spPr>
          <a:xfrm>
            <a:off x="227160" y="5923080"/>
            <a:ext cx="60228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VGS-kring Stedendriehoek ,1 okto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edkeuringsproces koppelvla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898989"/>
                </a:solidFill>
                <a:latin typeface="Verdana"/>
              </a:rPr>
              <a:t>Regiegroep 5 december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proces expert groe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84000" y="167796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Publieke consultatie 3 weken voorafgaand aan expertgroepe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geen bezwaren 1 week voor de expertgroep, automatisch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wel bezwaren behandeling in expert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proces regiegro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goedkeuring door beide expertgroepen randvoorwaardelij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Publieke consultatie beheerplan 3 weken voor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1 week voor regiegroep geen bezwaren, automatisch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dien wel bezwaar behandeling in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Welke koppelvlakken komen er aa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Wat is een koppelvla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Inhoudelijk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rmele goedkeur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oetsingsproce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lke koppelvlakken komen er a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d0c8b"/>
                </a:solidFill>
                <a:latin typeface="Verdana"/>
              </a:rPr>
              <a:t>Op korte termijn:</a:t>
            </a: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grade BAG-GB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cument management en de aansluiting op zaakgericht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ed0c8b"/>
                </a:solidFill>
                <a:latin typeface="Verdana"/>
              </a:rPr>
              <a:t>Op iets langere termijn:</a:t>
            </a: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orinvullen e-formulier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evoering Werk Inkomen Zorg koppelen aan Midoff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entralisatie Jeugdzor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onder voorbehou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tsluiten Omgevingsloket Online naar  midoff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es/informatieketen  WABO-BAG-GBA-WO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meenschappelijke diensten voor betalen en invorder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anmaken documenten waarbij gegevens automatisch worden gevu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akgericht werken bij toezicht en handha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rugmeldingen op Basisregistra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orinvullen adresgegevens en GEO-locatie m.b.v. de B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1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Genoemde koppelvlakken zijn binnengemeentelijk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eheer ligt bij KING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Koppelvlakken komen als standaard in de softwarecatalogu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ij de koppelvlakken wordt een testset voor StUF-testplatform ontwikkeld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Ontwikkeling vind plaats met groep leveranciers en gemeente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ehoefte aan breed draagvlak: goedkeuring door expert, regiegroep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4B176-EF66-402F-B8C5-8713EE566FE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 is een koppelv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1724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Beschreven in proces en documenteisen operatie NUP, 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oppelvlakken bestaan uit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, trigger en processchakel (business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eminteracties en koppelvlak (ICT-technisch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e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UF) ber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D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ING E-Diensten levert beheerpla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oudelijke goedke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04640" y="15001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oppelvlakken bestaan uit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, trigger en processchakel (business perspectief)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eminteracties en koppelvlak (ICT-technisch perspectie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emodel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expertgroep informatiemodell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UF) berichten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expertgroep StU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D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KING E-Diensten levert beheerplan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(regiegroe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5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82480" y="15001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Expertgroep informatiemodellen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Juist hergebruik bestaand informatiemod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Bij aanpassing of nieuw informatiemod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uiste toepassing metamod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cte beschrijving element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uist hergebruik uit bestaande mode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anwezigheid verantwoording modelleerbeslissing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ementatie onafhankelijkhe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6E521-D2E4-4EAE-9323-41CCD6B1F8D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Expertgroep StUF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Duidelijkheid over de plek in de familiestructuur Organisatorische en functionele werkingsgebied moet duidelijk zij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de regels van de StUF-onderlaag (o.a. validerende schema’s)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de StUF-specificatie voor protocolbinding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Een structuurplaatje opbouw schema’s (documentatieverplichting)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Contactgegevens beheerder van berichtcatalogus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Voldoet aan naamgeving- en versienummering conventies en andere eisen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(namespace conventies) die aan een sectormodel worden gesteld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Optimaal hergebruik bestaande StUF-onderdel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d0c8b"/>
                </a:solidFill>
                <a:latin typeface="Verdana"/>
              </a:rPr>
              <a:t>Geen conflicten met andere StUF-onderdelen.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8" name="Date Placeholder 3"/>
          <p:cNvSpPr/>
          <p:nvPr/>
        </p:nvSpPr>
        <p:spPr>
          <a:xfrm>
            <a:off x="227160" y="5923080"/>
            <a:ext cx="57927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NG/KING - 22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9D43-B9D3-4E3B-B6BE-7618A435D5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etsings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7448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Regiegroep toetst beheerplan, analoog aan familiecriteria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1. Beheercontinuiteit &gt;= 3 ja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2. Duidelijkheid afhankelijkheid met ande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F onderdelen (bijv. een configuratieplaat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3. Release beleid incl. releasefrequentie en aansluit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 afhankelijke familiele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4. Heldere besluitvorming- en participatiestruct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5. Vaste vertegenwoordiger beheerorganisatie in regiegro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6. Specificaties publiekelijk toegankeli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7. Beschreven beheermodel op basis van StUF beheer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08. Inzicht in (voorgenomen) implementa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1:22:51Z</dcterms:created>
  <dc:creator>user</dc:creator>
  <dc:description/>
  <dc:language>en-US</dc:language>
  <cp:lastModifiedBy>Frank Terpstra</cp:lastModifiedBy>
  <dcterms:modified xsi:type="dcterms:W3CDTF">2012-12-05T06:28:49Z</dcterms:modified>
  <cp:revision>493</cp:revision>
  <dc:subject/>
  <dc:title>Slide 1</dc:title>
</cp:coreProperties>
</file>